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CEB-3A06-4765-A179-E5790803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81B7-98DE-4707-AAEF-FF5D4D26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421-A63E-499F-A155-8C4ADA43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062-09CA-48A4-8D44-757FA63A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2C48-9FD4-4FEF-9690-A70DB0A5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E27-0481-442E-9D3C-7B6DEBE4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F00-2BE9-4297-8BE7-F1C9BF1E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8C32-40D7-4009-8D4C-ED635426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BB5-46CB-440A-B6CC-64574C74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FD9-E861-4099-A38B-0E37800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A08-76C2-44AE-B7E3-B52CA1A4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C14-66CB-4F75-BA4F-BC68445A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EE6-58E4-4866-8B2E-68AB155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7C5-26C8-40F0-ACAF-B7DBE44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578-CCF5-4ECD-B9F3-BDB777C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343-C6F9-432A-AEC0-9766B4E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BA3-B59A-4675-A927-51D35785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472-D434-451F-9627-AB7DBD3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DFA-2778-4F54-B94F-3C01D6E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FFA-5565-4415-9492-890C896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FEB3-BB6F-4190-BDFF-870D7EB9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Brai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at gender solved problems qui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boys will solve the problem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first subject into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m how the test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hem while they are finishing a puzzle from ea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e if only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test to the next su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 5 until everyone 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1523880"/>
          <a:ext cx="8381880" cy="5245200"/>
        </p:xfrm>
        <a:graphic>
          <a:graphicData uri="http://schemas.openxmlformats.org/drawingml/2006/table">
            <a:tbl>
              <a:tblPr/>
              <a:tblGrid>
                <a:gridCol w="2081160"/>
                <a:gridCol w="1574640"/>
                <a:gridCol w="1575000"/>
                <a:gridCol w="1576440"/>
                <a:gridCol w="1574640"/>
              </a:tblGrid>
              <a:tr h="125640">
                <a:tc>
                  <a:txBody>
                    <a:bodyPr lIns="26280" rIns="2628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a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xp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Ma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9.1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4.15.4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Junior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54.5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0.15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1.6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5.7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verag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50.1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73.0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4.15.4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5.7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2.26.6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9.5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6.2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verag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78.0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6.2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right. The boy’s average was quicker because the girls had many DNF or Did Not Finish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stallings family</cp:lastModifiedBy>
  <dcterms:modified xsi:type="dcterms:W3CDTF">2010-02-12T01:43:57Z</dcterms:modified>
  <cp:revision>4</cp:revision>
  <dc:subject/>
  <dc:title>Run…..Run……RUN</dc:title>
</cp:coreProperties>
</file>